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B7E-86B7-462C-A2D0-A76D7E0E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3D0-4EB5-4E2E-9E78-ED3DB986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099-1F2A-45B9-A9BB-A662CB1F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2C7-8B85-4F90-927D-18A50DED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68E1-BCB1-4F2C-B8B6-1A06C364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C035-A277-4AA7-ADAD-9A90FD41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516-3B53-462A-9E0F-D8D2FF4C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B096-2324-4719-B010-BEB5640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31F9-D599-4724-BC43-9A052FEC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BD4F-ECD7-4176-9D70-E6B1926D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FC56-6EA7-4020-ABB2-063CC6B6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30F-5C88-4E32-823C-2E22170A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262B-9562-41E4-8A74-9515D2A6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3037-27C7-48C9-8A99-EDBE611F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0320-738B-42A3-A357-C50106D5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BD05-153A-41B5-B2C3-BB51D6C9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B262-40B7-4A34-B86A-52F30963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AA7-93A5-47E8-8FED-069362ED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550-2E2B-419D-9E8E-49BF9BC5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530-999F-4F27-A0A7-742C8EEF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34C-6C60-4B0C-863F-40B01435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366-6E47-420F-9745-C109AF4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C28-56B9-468B-8D8D-EF26D113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02E-D6A8-4507-8CD6-65EE6817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33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49120" indent="-3834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49120" indent="-3834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5A1-3437-41DE-945A-DC1262D08E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49120" indent="-3834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49120" indent="-3834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B7A6-7F8A-4E86-BFA8-9734536EDB6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04-19a-Microtubules-NL"/>
          <p:cNvPicPr/>
          <p:nvPr/>
        </p:nvPicPr>
        <p:blipFill>
          <a:blip r:embed="rId1"/>
          <a:stretch/>
        </p:blipFill>
        <p:spPr>
          <a:xfrm>
            <a:off x="228600" y="3200400"/>
            <a:ext cx="3200400" cy="2560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A Tour of the Cell”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94" name="Picture 8" descr="04-06bx-PlantCells"/>
          <p:cNvPicPr/>
          <p:nvPr/>
        </p:nvPicPr>
        <p:blipFill>
          <a:blip r:embed="rId2"/>
          <a:stretch/>
        </p:blipFill>
        <p:spPr>
          <a:xfrm>
            <a:off x="2895480" y="1600200"/>
            <a:ext cx="3276720" cy="224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04-02b-LymphocyteSEM-L"/>
          <p:cNvPicPr/>
          <p:nvPr/>
        </p:nvPicPr>
        <p:blipFill>
          <a:blip r:embed="rId3"/>
          <a:srcRect l="7684" t="3489" r="2399" b="14122"/>
          <a:stretch/>
        </p:blipFill>
        <p:spPr>
          <a:xfrm>
            <a:off x="5562720" y="2971800"/>
            <a:ext cx="2590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39116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Functions of Membrane Protein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29" name="Picture 6" descr="04-08-MembraneProteinFxn-L"/>
          <p:cNvPicPr/>
          <p:nvPr/>
        </p:nvPicPr>
        <p:blipFill>
          <a:blip r:embed="rId1"/>
          <a:srcRect l="0" t="0" r="0" b="5186"/>
          <a:stretch/>
        </p:blipFill>
        <p:spPr>
          <a:xfrm>
            <a:off x="838080" y="1676520"/>
            <a:ext cx="7848720" cy="50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Nucleu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ntrol cent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34160" indent="-434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urrounded by nuclear envelop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61840" indent="-42624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milar to plasma membran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34160" indent="-434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hromati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61840" indent="-42624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NA &amp; other protei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61840" indent="-42624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hromosome:  each fiber of chromati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61840" indent="-42624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ooks like tangled mes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34160" indent="-434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ucleolus:  ribosome producti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Ribosom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ot in nucleu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ild cell’s protei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me suspended in cytoso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me attached to endoplasmic reticulum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34" name="Picture 4" descr="04-06a-AnimalCell-L"/>
          <p:cNvPicPr/>
          <p:nvPr/>
        </p:nvPicPr>
        <p:blipFill>
          <a:blip r:embed="rId1"/>
          <a:stretch/>
        </p:blipFill>
        <p:spPr>
          <a:xfrm>
            <a:off x="4038480" y="2104920"/>
            <a:ext cx="49104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5788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Nucleus &amp; Ribosom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36" name="Picture 4" descr="04-09-Nucleus-L"/>
          <p:cNvPicPr/>
          <p:nvPr/>
        </p:nvPicPr>
        <p:blipFill>
          <a:blip r:embed="rId1"/>
          <a:stretch/>
        </p:blipFill>
        <p:spPr>
          <a:xfrm>
            <a:off x="1523880" y="1665360"/>
            <a:ext cx="618192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How DNA Controls the Cell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nsfers coded message to RN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NA carries message out of nucleus to rest of cel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ells ribosome what protein to mak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39" name="Picture 6" descr="04-10-NucleusFxn-L"/>
          <p:cNvPicPr/>
          <p:nvPr/>
        </p:nvPicPr>
        <p:blipFill>
          <a:blip r:embed="rId1"/>
          <a:srcRect l="3362" t="3335" r="5161" b="4668"/>
          <a:stretch/>
        </p:blipFill>
        <p:spPr>
          <a:xfrm>
            <a:off x="5029200" y="1676520"/>
            <a:ext cx="3660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domembrane System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84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ndoplasmic reticulum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Golgi apparatu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ysosom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acuol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42" name="Picture 4" descr="04-06a-AnimalCell-L"/>
          <p:cNvPicPr/>
          <p:nvPr/>
        </p:nvPicPr>
        <p:blipFill>
          <a:blip r:embed="rId1"/>
          <a:stretch/>
        </p:blipFill>
        <p:spPr>
          <a:xfrm>
            <a:off x="3962520" y="2666880"/>
            <a:ext cx="49100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doplasmic Reticulum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425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ystem of tubes &amp; sac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25160" indent="-425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anufactures molecul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25160" indent="-425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ough &amp; smooth 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45" name="Picture 5" descr="04-11-ER-L"/>
          <p:cNvPicPr/>
          <p:nvPr/>
        </p:nvPicPr>
        <p:blipFill>
          <a:blip r:embed="rId1"/>
          <a:stretch/>
        </p:blipFill>
        <p:spPr>
          <a:xfrm>
            <a:off x="4800600" y="1828800"/>
            <a:ext cx="4102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Rough Endoplasmic Reticulum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ibosomes on the outsid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duce 2 types of protei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embran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retory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nsport                             vesicles:  bud                              from 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48" name="Picture 6" descr="04-12-rERfxn-L"/>
          <p:cNvPicPr/>
          <p:nvPr/>
        </p:nvPicPr>
        <p:blipFill>
          <a:blip r:embed="rId1"/>
          <a:srcRect l="1958" t="1998" r="1958" b="4668"/>
          <a:stretch/>
        </p:blipFill>
        <p:spPr>
          <a:xfrm>
            <a:off x="4038480" y="2971800"/>
            <a:ext cx="48769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6201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Smooth Endoplasmic Reticulum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o ribosom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ynthesis of lip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tero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x hormon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etox of drug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51" name="Picture 6" descr="04-11-ER-L"/>
          <p:cNvPicPr/>
          <p:nvPr/>
        </p:nvPicPr>
        <p:blipFill>
          <a:blip r:embed="rId1"/>
          <a:stretch/>
        </p:blipFill>
        <p:spPr>
          <a:xfrm>
            <a:off x="4876920" y="1676520"/>
            <a:ext cx="410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Golgi Apparatu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efines, stores &amp; distributes product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ose partnership with 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54" name="Picture 4" descr="04-13-GolgiApparatus-L"/>
          <p:cNvPicPr/>
          <p:nvPr/>
        </p:nvPicPr>
        <p:blipFill>
          <a:blip r:embed="rId1"/>
          <a:stretch/>
        </p:blipFill>
        <p:spPr>
          <a:xfrm>
            <a:off x="304920" y="3048120"/>
            <a:ext cx="860112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1578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Microscop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ight microscop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isible light passes through specime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Ocular x objective = magnificati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Up to 1000x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98" name="Picture 5" descr="04-02a-LymphocyteLM-L"/>
          <p:cNvPicPr/>
          <p:nvPr/>
        </p:nvPicPr>
        <p:blipFill>
          <a:blip r:embed="rId1"/>
          <a:srcRect l="24879" t="23421" r="24879" b="38042"/>
          <a:stretch/>
        </p:blipFill>
        <p:spPr>
          <a:xfrm>
            <a:off x="4724280" y="3505320"/>
            <a:ext cx="4038840" cy="308268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9"/>
          <p:cNvGrpSpPr/>
          <p:nvPr/>
        </p:nvGrpSpPr>
        <p:grpSpPr>
          <a:xfrm>
            <a:off x="1752480" y="4038480"/>
            <a:ext cx="2407320" cy="2821680"/>
            <a:chOff x="1752480" y="4038480"/>
            <a:chExt cx="2407320" cy="2821680"/>
          </a:xfrm>
        </p:grpSpPr>
        <p:pic>
          <p:nvPicPr>
            <p:cNvPr id="100" name="Picture 6" descr=""/>
            <p:cNvPicPr/>
            <p:nvPr/>
          </p:nvPicPr>
          <p:blipFill>
            <a:blip r:embed="rId2"/>
            <a:stretch/>
          </p:blipFill>
          <p:spPr>
            <a:xfrm>
              <a:off x="1752480" y="4038480"/>
              <a:ext cx="2381400" cy="24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7"/>
            <p:cNvSpPr/>
            <p:nvPr/>
          </p:nvSpPr>
          <p:spPr>
            <a:xfrm>
              <a:off x="1790640" y="6553080"/>
              <a:ext cx="236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aeaea"/>
                  </a:solidFill>
                  <a:latin typeface="Comic Sans MS"/>
                </a:rPr>
                <a:t>Owen and the microscope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Lysosom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661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reakdown body”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c of digestive enzym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estroy harmful bacteri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Recycle parts of damaged organell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62520" indent="-36252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ost plant                                        cells lack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57" name="Picture 4" descr="04-14-LysosomeFxn-L"/>
          <p:cNvPicPr/>
          <p:nvPr/>
        </p:nvPicPr>
        <p:blipFill>
          <a:blip r:embed="rId1"/>
          <a:srcRect l="3209" t="48668" r="0" b="3256"/>
          <a:stretch/>
        </p:blipFill>
        <p:spPr>
          <a:xfrm>
            <a:off x="3886200" y="3962520"/>
            <a:ext cx="4886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Lysosomes:  Nutrient Digesti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61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od (nutrients) enter cel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od engulfed by food vacuol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ysosome fuses with food vacuol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hemicals in lysosome digest food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84840" indent="-384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neficial                              products                               released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60" name="Picture 4" descr="04-14-LysosomeFxn-L"/>
          <p:cNvPicPr/>
          <p:nvPr/>
        </p:nvPicPr>
        <p:blipFill>
          <a:blip r:embed="rId1"/>
          <a:srcRect l="3209" t="0" r="0" b="52676"/>
          <a:stretch/>
        </p:blipFill>
        <p:spPr>
          <a:xfrm>
            <a:off x="3505320" y="3733920"/>
            <a:ext cx="526716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1578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Lysosomal Storage Diseas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ay-Sachs diseas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Genetic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ysosomes lack lipid-digesting enzym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erve cells accumulate excess lip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Die in childhood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5562720" y="1676520"/>
            <a:ext cx="3581280" cy="5182200"/>
            <a:chOff x="5562720" y="1676520"/>
            <a:chExt cx="3581280" cy="5182200"/>
          </a:xfrm>
        </p:grpSpPr>
        <p:pic>
          <p:nvPicPr>
            <p:cNvPr id="164" name="Picture 5" descr=""/>
            <p:cNvPicPr/>
            <p:nvPr/>
          </p:nvPicPr>
          <p:blipFill>
            <a:blip r:embed="rId1"/>
            <a:stretch/>
          </p:blipFill>
          <p:spPr>
            <a:xfrm>
              <a:off x="5562720" y="1676520"/>
              <a:ext cx="3311280" cy="47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6"/>
            <p:cNvSpPr/>
            <p:nvPr/>
          </p:nvSpPr>
          <p:spPr>
            <a:xfrm>
              <a:off x="7086600" y="6521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Comic Sans MS"/>
                </a:rPr>
                <a:t>University of AZ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Vacuol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ariety of functio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torage, transport, etc…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lants have a large central vacuol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68" name="Picture 5" descr="04-15-Vacuoles-L"/>
          <p:cNvPicPr/>
          <p:nvPr/>
        </p:nvPicPr>
        <p:blipFill>
          <a:blip r:embed="rId1"/>
          <a:srcRect l="0" t="0" r="50064" b="5958"/>
          <a:stretch/>
        </p:blipFill>
        <p:spPr>
          <a:xfrm>
            <a:off x="457200" y="3247920"/>
            <a:ext cx="3809880" cy="3610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04-15-Vacuoles-L"/>
          <p:cNvPicPr/>
          <p:nvPr/>
        </p:nvPicPr>
        <p:blipFill>
          <a:blip r:embed="rId2"/>
          <a:srcRect l="50064" t="0" r="0" b="4713"/>
          <a:stretch/>
        </p:blipFill>
        <p:spPr>
          <a:xfrm>
            <a:off x="4952880" y="320040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3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domembrane Review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71" name="Picture 6" descr="04-16-EndomembraneSystem-L"/>
          <p:cNvPicPr/>
          <p:nvPr/>
        </p:nvPicPr>
        <p:blipFill>
          <a:blip r:embed="rId1"/>
          <a:srcRect l="1658" t="2080" r="3216" b="4745"/>
          <a:stretch/>
        </p:blipFill>
        <p:spPr>
          <a:xfrm>
            <a:off x="2286000" y="1600200"/>
            <a:ext cx="444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37388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ergy-Converting Organell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hloroplast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Only in plants &amp; some protist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74" name="Picture 5" descr="04-17-Chloroplast-L"/>
          <p:cNvPicPr/>
          <p:nvPr/>
        </p:nvPicPr>
        <p:blipFill>
          <a:blip r:embed="rId1"/>
          <a:srcRect l="0" t="0" r="0" b="4745"/>
          <a:stretch/>
        </p:blipFill>
        <p:spPr>
          <a:xfrm>
            <a:off x="4191120" y="1981080"/>
            <a:ext cx="46288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37388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nergy-Converting Organell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itochondri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ellular respirati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nergy from food converted to chemical energy (ATP)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26560" indent="-40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st all                                 eukaryotic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77" name="Picture 7" descr="04-18-Mitochondrion-L"/>
          <p:cNvPicPr/>
          <p:nvPr/>
        </p:nvPicPr>
        <p:blipFill>
          <a:blip r:embed="rId1"/>
          <a:srcRect l="0" t="1085" r="0" b="4238"/>
          <a:stretch/>
        </p:blipFill>
        <p:spPr>
          <a:xfrm>
            <a:off x="4038480" y="3581280"/>
            <a:ext cx="49482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Cytoskelet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bers that extend through cytoplasm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vides suppor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chors organell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80" name="Picture 5" descr="04-19a-Microtubules-L"/>
          <p:cNvPicPr/>
          <p:nvPr/>
        </p:nvPicPr>
        <p:blipFill>
          <a:blip r:embed="rId1"/>
          <a:srcRect l="5424" t="1998" r="7773" b="16667"/>
          <a:stretch/>
        </p:blipFill>
        <p:spPr>
          <a:xfrm>
            <a:off x="2743200" y="3657600"/>
            <a:ext cx="35053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Cilia &amp; Flagella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661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xtensions of cytoskelet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pulsi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luid movemen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83" name="Picture 9" descr="04-20a-Sperm-NL"/>
          <p:cNvPicPr/>
          <p:nvPr/>
        </p:nvPicPr>
        <p:blipFill>
          <a:blip r:embed="rId1"/>
          <a:srcRect l="3211" t="8599" r="4351" b="21954"/>
          <a:stretch/>
        </p:blipFill>
        <p:spPr>
          <a:xfrm>
            <a:off x="228600" y="3505320"/>
            <a:ext cx="3581280" cy="2300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04-20b-ProtistCilia-L"/>
          <p:cNvPicPr/>
          <p:nvPr/>
        </p:nvPicPr>
        <p:blipFill>
          <a:blip r:embed="rId2"/>
          <a:srcRect l="3645" t="3256" r="8133" b="15276"/>
          <a:stretch/>
        </p:blipFill>
        <p:spPr>
          <a:xfrm>
            <a:off x="3657600" y="4114800"/>
            <a:ext cx="2505240" cy="2590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04-20c-Cilia-L"/>
          <p:cNvPicPr/>
          <p:nvPr/>
        </p:nvPicPr>
        <p:blipFill>
          <a:blip r:embed="rId3"/>
          <a:srcRect l="4720" t="4590" r="6605" b="12602"/>
          <a:stretch/>
        </p:blipFill>
        <p:spPr>
          <a:xfrm>
            <a:off x="5867280" y="2438280"/>
            <a:ext cx="2368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1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Plant Cell Surfac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766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urround plant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tection, support, prevents cell from exploding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ade of???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lasmodesmata:                  connect adjacent                    plant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88" name="Picture 4" descr="04-21-Plasmodesmata-L"/>
          <p:cNvPicPr/>
          <p:nvPr/>
        </p:nvPicPr>
        <p:blipFill>
          <a:blip r:embed="rId1"/>
          <a:stretch/>
        </p:blipFill>
        <p:spPr>
          <a:xfrm>
            <a:off x="4724280" y="3505320"/>
            <a:ext cx="411480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1578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Microscop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876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lectron microscop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tter resolving pow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Up to 100,000x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canning EM:  surface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nsmission EM:  internal part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04" name="Picture 4" descr="04-02b-LymphocyteSEM-L"/>
          <p:cNvPicPr/>
          <p:nvPr/>
        </p:nvPicPr>
        <p:blipFill>
          <a:blip r:embed="rId1"/>
          <a:srcRect l="5041" t="3489" r="3720" b="11461"/>
          <a:stretch/>
        </p:blipFill>
        <p:spPr>
          <a:xfrm>
            <a:off x="6019920" y="160020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04-02c-LymphocyteTEM-L"/>
          <p:cNvPicPr/>
          <p:nvPr/>
        </p:nvPicPr>
        <p:blipFill>
          <a:blip r:embed="rId2"/>
          <a:srcRect l="18000" t="2761" r="17001" b="12954"/>
          <a:stretch/>
        </p:blipFill>
        <p:spPr>
          <a:xfrm>
            <a:off x="6095880" y="4267080"/>
            <a:ext cx="259092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Animal Cell Surface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No cell wa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xtracellular matrix:  holds cells togeth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ell junctions:  connect adjacent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91" name="Picture 4" descr="04-22-CellJunctions-L"/>
          <p:cNvPicPr/>
          <p:nvPr/>
        </p:nvPicPr>
        <p:blipFill>
          <a:blip r:embed="rId1"/>
          <a:stretch/>
        </p:blipFill>
        <p:spPr>
          <a:xfrm>
            <a:off x="4114800" y="1828800"/>
            <a:ext cx="48862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5788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Kinds of Cell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2971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karyotic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ukaryotic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08" name="Picture 4" descr="04-04-CellSizes-L"/>
          <p:cNvPicPr/>
          <p:nvPr/>
        </p:nvPicPr>
        <p:blipFill>
          <a:blip r:embed="rId1"/>
          <a:srcRect l="0" t="0" r="0" b="3815"/>
          <a:stretch/>
        </p:blipFill>
        <p:spPr>
          <a:xfrm>
            <a:off x="3352680" y="1828800"/>
            <a:ext cx="5562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5788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Kinds of Cell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11" name="Picture 5" descr="04-VS01-ProVsEukaryote"/>
          <p:cNvPicPr/>
          <p:nvPr/>
        </p:nvPicPr>
        <p:blipFill>
          <a:blip r:embed="rId1"/>
          <a:srcRect l="0" t="0" r="0" b="4571"/>
          <a:stretch/>
        </p:blipFill>
        <p:spPr>
          <a:xfrm>
            <a:off x="380880" y="1828800"/>
            <a:ext cx="84679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5788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Eukaryotic Cell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imal vs. plant cell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ytoplasm:  between nucleus &amp; plasma membran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ytosol:  fluid portion of cytoplasm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235080" y="3809880"/>
            <a:ext cx="4065480" cy="2867040"/>
            <a:chOff x="235080" y="3809880"/>
            <a:chExt cx="4065480" cy="2867040"/>
          </a:xfrm>
        </p:grpSpPr>
        <p:pic>
          <p:nvPicPr>
            <p:cNvPr id="115" name="Picture 4" descr="04-06a-AnimalCell-L"/>
            <p:cNvPicPr/>
            <p:nvPr/>
          </p:nvPicPr>
          <p:blipFill>
            <a:blip r:embed="rId1"/>
            <a:stretch/>
          </p:blipFill>
          <p:spPr>
            <a:xfrm>
              <a:off x="685800" y="3809880"/>
              <a:ext cx="3614760" cy="28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6"/>
            <p:cNvSpPr/>
            <p:nvPr/>
          </p:nvSpPr>
          <p:spPr>
            <a:xfrm rot="16200000">
              <a:off x="-271440" y="5054400"/>
              <a:ext cx="13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Comic Sans MS"/>
                </a:rPr>
                <a:t>Animal Cel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4800600" y="3809880"/>
            <a:ext cx="4102200" cy="2867040"/>
            <a:chOff x="4800600" y="3809880"/>
            <a:chExt cx="4102200" cy="2867040"/>
          </a:xfrm>
        </p:grpSpPr>
        <p:pic>
          <p:nvPicPr>
            <p:cNvPr id="118" name="Picture 5" descr="04-06b-PlantCell-L"/>
            <p:cNvPicPr/>
            <p:nvPr/>
          </p:nvPicPr>
          <p:blipFill>
            <a:blip r:embed="rId2"/>
            <a:stretch/>
          </p:blipFill>
          <p:spPr>
            <a:xfrm>
              <a:off x="4800600" y="3809880"/>
              <a:ext cx="3614760" cy="28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"/>
            <p:cNvSpPr/>
            <p:nvPr/>
          </p:nvSpPr>
          <p:spPr>
            <a:xfrm rot="16200000">
              <a:off x="8126640" y="4893480"/>
              <a:ext cx="118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Comic Sans MS"/>
                </a:rPr>
                <a:t>Plant Cel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57880" cy="12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Plasma Membrane Structur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661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Mostly proteins &amp; lip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hospholipid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hosphate “head”:  water-loving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ipid “tail”:                           water-fearing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rm a bilay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22" name="Picture 4" descr="04-07a-PhosBylayMem-L"/>
          <p:cNvPicPr/>
          <p:nvPr/>
        </p:nvPicPr>
        <p:blipFill>
          <a:blip r:embed="rId1"/>
          <a:stretch/>
        </p:blipFill>
        <p:spPr>
          <a:xfrm>
            <a:off x="4267080" y="3505320"/>
            <a:ext cx="4724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5788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Plasma Membrane Structur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oteins inserted in bilaye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luid mosaic:  phospholipids &amp; proteins drift around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25" name="Picture 4" descr="04-07b-FluiMosaModel-L"/>
          <p:cNvPicPr/>
          <p:nvPr/>
        </p:nvPicPr>
        <p:blipFill>
          <a:blip r:embed="rId1"/>
          <a:srcRect l="0" t="0" r="0" b="4200"/>
          <a:stretch/>
        </p:blipFill>
        <p:spPr>
          <a:xfrm>
            <a:off x="3505320" y="1752480"/>
            <a:ext cx="535752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15788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Plasma Membrane Functi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lectively permeabl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Only certain materials come in or go ou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me “traffic” regulated by protei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888840" indent="-43956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Other proteins perform other function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20:02:26Z</dcterms:created>
  <dc:creator>Dawn G. Keller</dc:creator>
  <dc:description/>
  <dc:language>en-US</dc:language>
  <cp:lastModifiedBy>Lyn Clarkson</cp:lastModifiedBy>
  <dcterms:modified xsi:type="dcterms:W3CDTF">2008-10-23T03:23:21Z</dcterms:modified>
  <cp:revision>27</cp:revision>
  <dc:subject/>
  <dc:title>Chp. 4:  “A Tour of the Cell”</dc:title>
</cp:coreProperties>
</file>